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D20-320F-46C4-B987-513CAEFE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BFC-09AB-43AF-8F49-2D464C26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9B4-A6FA-4E66-9EC0-CCDB5575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C8B-A401-48ED-B06D-9C3EF562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718-C408-4339-B302-5971B1D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F32B-69FE-4F72-A854-F79659C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593C-71CB-46F0-8797-9942414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F815-E802-4DD9-BA99-76A0CFF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326A-8806-4C01-A5EB-F172C93D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0B49-A014-4E66-B278-2690C8D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01C-20A2-4DCA-8B22-C0309B1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92B-D1A4-40EC-B37F-E1473A7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01C-0888-48C2-BF30-8227D8C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033A-F89C-48DE-838A-4014D15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E10-1949-4019-9BD2-E5003E0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EF35-9141-4ED9-A54E-544B8824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4C93-5110-44BE-AABA-7D44001D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8FF-7825-4F65-84DC-E09BD3B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DAA-174A-4457-8302-CE5A6695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D5A-F566-4DAD-9987-3AEB87C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E81-9507-44FB-8546-01F2F835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5C8-86C7-4C79-80A3-524DFA9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23B-D3DD-45C0-89BC-6E5BEF0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F84-0097-48FD-BDA7-6C28333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D6F-6411-4C92-B805-5D7A3406D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B5E-4602-435F-A711-9A308B02F1E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C0E3-5548-4976-BC65-0C7731066F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320" y="457164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quation Analysis Shee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Analyzing Changes in Financial Position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1C4-D85A-4B99-AC95-B741543AA9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4.  Equipment costing $1,950 is purchased for cas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886200"/>
            <a:ext cx="9144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A533-5DD0-4C9C-A0FE-F625264CEE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0" y="4403880"/>
            <a:ext cx="9144000" cy="1237320"/>
            <a:chOff x="0" y="4403880"/>
            <a:chExt cx="9144000" cy="1237320"/>
          </a:xfrm>
        </p:grpSpPr>
        <p:sp>
          <p:nvSpPr>
            <p:cNvPr id="211" name="AutoShape 6"/>
            <p:cNvSpPr/>
            <p:nvPr/>
          </p:nvSpPr>
          <p:spPr>
            <a:xfrm rot="5400000">
              <a:off x="3771360" y="26128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5400000">
              <a:off x="6806880" y="36417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5400000">
              <a:off x="8343720" y="40989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0" y="49374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" name="Text Box 11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4.  Equipment costing $1,950 is purchased for cas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F363-BC43-4365-A714-FC8E24BC97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5.  A new pick-up truck is purchased at a cost of $18,000.  Pay $10,000 cash and borrow the balance from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1E4D-C25E-4692-A8E5-28C082FF0BA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800600"/>
            <a:ext cx="9144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0" y="4861080"/>
            <a:ext cx="9144000" cy="1237320"/>
            <a:chOff x="0" y="4861080"/>
            <a:chExt cx="9144000" cy="1237320"/>
          </a:xfrm>
        </p:grpSpPr>
        <p:sp>
          <p:nvSpPr>
            <p:cNvPr id="230" name="AutoShape 6"/>
            <p:cNvSpPr/>
            <p:nvPr/>
          </p:nvSpPr>
          <p:spPr>
            <a:xfrm rot="5400000">
              <a:off x="3771360" y="30704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 rot="5400000">
              <a:off x="6806880" y="4098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AutoShape 8"/>
            <p:cNvSpPr/>
            <p:nvPr/>
          </p:nvSpPr>
          <p:spPr>
            <a:xfrm rot="5400000">
              <a:off x="8343720" y="4556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0" y="5394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0,100            =                $26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4" name="Text Box 11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5.  A new pick-up truck is purchased at a cost of $18,000.  Pay $10,000 cash and borrow the balance from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08A8-CE18-4E71-956B-B121D45889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6.  Metro Movers complete a storage service for B. Cava at a price of $1,500.  A bill is sent to B. Ca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4800600"/>
            <a:ext cx="9144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6633-2B9F-4FA5-BBAA-4CF3C7A6AA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525780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0" y="5318280"/>
            <a:ext cx="9144000" cy="1237320"/>
            <a:chOff x="0" y="5318280"/>
            <a:chExt cx="9144000" cy="1237320"/>
          </a:xfrm>
        </p:grpSpPr>
        <p:sp>
          <p:nvSpPr>
            <p:cNvPr id="249" name="AutoShape 6"/>
            <p:cNvSpPr/>
            <p:nvPr/>
          </p:nvSpPr>
          <p:spPr>
            <a:xfrm rot="5400000">
              <a:off x="3771360" y="35276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AutoShape 7"/>
            <p:cNvSpPr/>
            <p:nvPr/>
          </p:nvSpPr>
          <p:spPr>
            <a:xfrm rot="5400000">
              <a:off x="6806880" y="45561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rot="5400000">
              <a:off x="8343720" y="50133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0" y="58518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600            =                $26,920    +    $34,6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3" name="Text Box 11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6.  Metro Movers complete a storage service for B. Cava at a price of $1,500.  A bill is sent to B. Ca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029-798F-46AF-BE21-AE4C5656414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Line 7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7.  J. Hofner, the owner, withdraws $500 for personal 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A25-750F-4455-81E9-597F545581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57150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0" y="5775480"/>
            <a:ext cx="9144000" cy="1237320"/>
            <a:chOff x="0" y="5775480"/>
            <a:chExt cx="9144000" cy="1237320"/>
          </a:xfrm>
        </p:grpSpPr>
        <p:sp>
          <p:nvSpPr>
            <p:cNvPr id="268" name="AutoShape 6"/>
            <p:cNvSpPr/>
            <p:nvPr/>
          </p:nvSpPr>
          <p:spPr>
            <a:xfrm rot="5400000">
              <a:off x="3771360" y="39848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 rot="5400000">
              <a:off x="6806880" y="50133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 rot="5400000">
              <a:off x="8343720" y="54705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0" y="63090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100            =                $26,920    +    $34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Text Box 11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7.  J. Hofner, the owner, withdraws $500 for personal 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C7AE-986A-4955-BA50-66E6115DF92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8.  One of the trucks requires engine work costing $75.  The repair is paid in cash when the truck is picked 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5715000"/>
            <a:ext cx="9144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80C-920C-478D-9350-8EA70B6C08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Line 14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85" name="Group 13"/>
          <p:cNvGrpSpPr/>
          <p:nvPr/>
        </p:nvGrpSpPr>
        <p:grpSpPr>
          <a:xfrm>
            <a:off x="0" y="6095880"/>
            <a:ext cx="9144000" cy="1085040"/>
            <a:chOff x="0" y="6095880"/>
            <a:chExt cx="9144000" cy="1085040"/>
          </a:xfrm>
        </p:grpSpPr>
        <p:sp>
          <p:nvSpPr>
            <p:cNvPr id="286" name="AutoShape 6"/>
            <p:cNvSpPr/>
            <p:nvPr/>
          </p:nvSpPr>
          <p:spPr>
            <a:xfrm rot="5400000">
              <a:off x="3771360" y="43052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 rot="5400000">
              <a:off x="6806880" y="53337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AutoShape 8"/>
            <p:cNvSpPr/>
            <p:nvPr/>
          </p:nvSpPr>
          <p:spPr>
            <a:xfrm rot="5400000">
              <a:off x="8343720" y="57909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0" y="647712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025            =                $26,920    +    $34,105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" name="Text Box 11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8.  One of the trucks requires engine work costing $75.  The repair is paid in cash when the truck is picked 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B5E-79AF-4CB8-A490-33350B5E2F2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 business transactions occur, there are changes in the values of assets, liabilities, and capit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lthough the Balance Sheet shows the values of these assets, liabilities, and capital on a particular date, it is not adequate to reflect changes created by individual transac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0751-3670-4C56-81D5-BC86B582BA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pdate the Balance Sheet based on the balances at the end of the Equation Analysis Shee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4" name="Object 11"/>
          <p:cNvGraphicFramePr/>
          <p:nvPr/>
        </p:nvGraphicFramePr>
        <p:xfrm>
          <a:off x="609480" y="3276720"/>
          <a:ext cx="7772400" cy="35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76720"/>
                    <a:ext cx="77724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Picture 13" descr="G:\Courses\BAF3MO\BAF Lessons\Support Materials\Ch3 Eq Anal.JPG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1677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37"/>
          <p:cNvGrpSpPr/>
          <p:nvPr/>
        </p:nvGrpSpPr>
        <p:grpSpPr>
          <a:xfrm>
            <a:off x="1828800" y="2666880"/>
            <a:ext cx="1981080" cy="2057400"/>
            <a:chOff x="1828800" y="2666880"/>
            <a:chExt cx="1981080" cy="2057400"/>
          </a:xfrm>
        </p:grpSpPr>
        <p:sp>
          <p:nvSpPr>
            <p:cNvPr id="298" name="Oval 14"/>
            <p:cNvSpPr/>
            <p:nvPr/>
          </p:nvSpPr>
          <p:spPr>
            <a:xfrm>
              <a:off x="1828800" y="266688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2362320" y="2971800"/>
              <a:ext cx="1447560" cy="175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2743200" y="2666880"/>
            <a:ext cx="1066680" cy="2438640"/>
            <a:chOff x="2743200" y="2666880"/>
            <a:chExt cx="1066680" cy="2438640"/>
          </a:xfrm>
        </p:grpSpPr>
        <p:sp>
          <p:nvSpPr>
            <p:cNvPr id="301" name="Oval 16"/>
            <p:cNvSpPr/>
            <p:nvPr/>
          </p:nvSpPr>
          <p:spPr>
            <a:xfrm>
              <a:off x="2743200" y="266688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3276720" y="2971800"/>
              <a:ext cx="53316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" name="Group 35"/>
          <p:cNvGrpSpPr/>
          <p:nvPr/>
        </p:nvGrpSpPr>
        <p:grpSpPr>
          <a:xfrm>
            <a:off x="3505320" y="2652840"/>
            <a:ext cx="990360" cy="2757240"/>
            <a:chOff x="3505320" y="2652840"/>
            <a:chExt cx="990360" cy="2757240"/>
          </a:xfrm>
        </p:grpSpPr>
        <p:sp>
          <p:nvSpPr>
            <p:cNvPr id="304" name="Oval 18"/>
            <p:cNvSpPr/>
            <p:nvPr/>
          </p:nvSpPr>
          <p:spPr>
            <a:xfrm>
              <a:off x="3505320" y="2652840"/>
              <a:ext cx="9903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 flipH="1">
              <a:off x="3962160" y="2957400"/>
              <a:ext cx="75960" cy="245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4"/>
          <p:cNvGrpSpPr/>
          <p:nvPr/>
        </p:nvGrpSpPr>
        <p:grpSpPr>
          <a:xfrm>
            <a:off x="3962520" y="2652840"/>
            <a:ext cx="1309680" cy="2985840"/>
            <a:chOff x="3962520" y="2652840"/>
            <a:chExt cx="1309680" cy="2985840"/>
          </a:xfrm>
        </p:grpSpPr>
        <p:sp>
          <p:nvSpPr>
            <p:cNvPr id="307" name="Oval 20"/>
            <p:cNvSpPr/>
            <p:nvPr/>
          </p:nvSpPr>
          <p:spPr>
            <a:xfrm>
              <a:off x="428148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 flipH="1">
              <a:off x="3962520" y="2957400"/>
              <a:ext cx="852480" cy="268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9" name="Group 33"/>
          <p:cNvGrpSpPr/>
          <p:nvPr/>
        </p:nvGrpSpPr>
        <p:grpSpPr>
          <a:xfrm>
            <a:off x="4191120" y="2652840"/>
            <a:ext cx="1914480" cy="3290760"/>
            <a:chOff x="4191120" y="2652840"/>
            <a:chExt cx="1914480" cy="3290760"/>
          </a:xfrm>
        </p:grpSpPr>
        <p:sp>
          <p:nvSpPr>
            <p:cNvPr id="310" name="Oval 22"/>
            <p:cNvSpPr/>
            <p:nvPr/>
          </p:nvSpPr>
          <p:spPr>
            <a:xfrm>
              <a:off x="511488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3"/>
            <p:cNvSpPr/>
            <p:nvPr/>
          </p:nvSpPr>
          <p:spPr>
            <a:xfrm flipH="1">
              <a:off x="4191120" y="2957400"/>
              <a:ext cx="1457280" cy="298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Group 32"/>
          <p:cNvGrpSpPr/>
          <p:nvPr/>
        </p:nvGrpSpPr>
        <p:grpSpPr>
          <a:xfrm>
            <a:off x="6033960" y="2647800"/>
            <a:ext cx="1890720" cy="2229120"/>
            <a:chOff x="6033960" y="2647800"/>
            <a:chExt cx="1890720" cy="2229120"/>
          </a:xfrm>
        </p:grpSpPr>
        <p:sp>
          <p:nvSpPr>
            <p:cNvPr id="313" name="Oval 24"/>
            <p:cNvSpPr/>
            <p:nvPr/>
          </p:nvSpPr>
          <p:spPr>
            <a:xfrm>
              <a:off x="6033960" y="264780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6567480" y="2952720"/>
              <a:ext cx="1357200" cy="192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5" name="Group 31"/>
          <p:cNvGrpSpPr/>
          <p:nvPr/>
        </p:nvGrpSpPr>
        <p:grpSpPr>
          <a:xfrm>
            <a:off x="7101000" y="2652840"/>
            <a:ext cx="990360" cy="2757240"/>
            <a:chOff x="7101000" y="2652840"/>
            <a:chExt cx="990360" cy="2757240"/>
          </a:xfrm>
        </p:grpSpPr>
        <p:sp>
          <p:nvSpPr>
            <p:cNvPr id="316" name="Oval 26"/>
            <p:cNvSpPr/>
            <p:nvPr/>
          </p:nvSpPr>
          <p:spPr>
            <a:xfrm>
              <a:off x="7101000" y="2652840"/>
              <a:ext cx="9903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7634160" y="2957400"/>
              <a:ext cx="214560" cy="245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30"/>
          <p:cNvGrpSpPr/>
          <p:nvPr/>
        </p:nvGrpSpPr>
        <p:grpSpPr>
          <a:xfrm>
            <a:off x="8143920" y="2652840"/>
            <a:ext cx="990720" cy="3519360"/>
            <a:chOff x="8143920" y="2652840"/>
            <a:chExt cx="990720" cy="3519360"/>
          </a:xfrm>
        </p:grpSpPr>
        <p:sp>
          <p:nvSpPr>
            <p:cNvPr id="319" name="Oval 28"/>
            <p:cNvSpPr/>
            <p:nvPr/>
          </p:nvSpPr>
          <p:spPr>
            <a:xfrm>
              <a:off x="814392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 flipH="1">
              <a:off x="8153280" y="2957400"/>
              <a:ext cx="524160" cy="321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B23-3656-465F-A1A0-C78976B133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dentify all items (assets and liabilities) that must be changed and make all necessary chan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efully analyze the information given for each transa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ify each item affected as an asset or liabil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cide whether each item affected is to be increased or decreas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D3E-4CDE-4F3A-8D02-88F4F53B71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e if the owner</a:t>
            </a:r>
            <a:r>
              <a:rPr b="1" lang="ja-JP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 equity has chang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ember the accounting equ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ssets decrease and liabilities are unchanged, the equation must be balanced by a decrease in owner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 equ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ake certain that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t least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two of the individual items / accounts have chang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is possible for several items to change, but there ca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neve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e only one chan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0483-8EE2-45C8-983F-5B7D499E51A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ke sure that the equation is still in bala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fundamental accounting equation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(Assets = Liabilities + Owner</a:t>
            </a:r>
            <a:r>
              <a:rPr b="1" lang="ja-JP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 Equity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ways be in bal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4C7-09AC-4BA2-A18B-71AE48FB6D7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609840" y="609120"/>
            <a:ext cx="9829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ing a spreadsheet program, set up a Equation Analysis Sheet (as per below) and record the following transactions.  Calculate the new totals after each entry to make sure the equation bal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388620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ationary and supplies are purchased from Ace Supply on credit for $75.  They will be paid for within 30 day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desk for the office is purchased for $45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. Murray, a debtor, pays her debt in fu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$100 service is performed for a customer who pays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used truck costing $6,500 is purchased from Pine Motors.  A down payment of $500 is made.  It is agreed the balance will be paid within three month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e Supply, a creditor, is paid $75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owner, Sheila Kostiuk, withdraws $100 from the business for her own us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0" y="2362320"/>
          <a:ext cx="914400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567B-2920-4C6C-AF03-D325429C50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05280" y="60948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 balance sheet of Triangle Real Estate of Tweed, Ontario, at the close of business on September 30, 2007, is as follow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9" name="Object 7"/>
          <p:cNvGraphicFramePr/>
          <p:nvPr/>
        </p:nvGraphicFramePr>
        <p:xfrm>
          <a:off x="228600" y="2224080"/>
          <a:ext cx="868680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24080"/>
                    <a:ext cx="868680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585-0DBD-4492-B1E0-63E1255636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pare an equation analysis sheet, using a spreadsheet program, and record the figures from the balance sheet provi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alyze the transactions of October 1, listed below, and record the necessary changes on the equation analysis sheet.  After each transaction, ensure that the equation is still in bal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fter completing transaction 5, prepare a new balance she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(continued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3809880"/>
            <a:ext cx="9296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October 1</a:t>
            </a:r>
            <a:r>
              <a:rPr b="0" lang="en-US" sz="2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Transaction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iangle Real Estate receives $100 cash from N. Swartz in partial payment of the amount owed by hi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me Supply is paid $200 cash in partial payment of the debt owed to th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upplies costing $95 are purchased for cash from the Standish Compan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iangle Real Estate sells a home for A.J. Buhler.  For this service, Triangle Real Estate receives a commission of $4,70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desk (Office Furniture) is purchased from Ideal Furniture for $95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0000-B4B7-4B71-A2B0-56E5BA6DDF9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05280" y="76212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liance Appliance Service in Renforth, Ontario, owned by Wayne Dalli, has the following assets and liabilities at the close of business on October 20, 2007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8" name="Group 7"/>
          <p:cNvGrpSpPr/>
          <p:nvPr/>
        </p:nvGrpSpPr>
        <p:grpSpPr>
          <a:xfrm>
            <a:off x="304920" y="1905120"/>
            <a:ext cx="8458200" cy="2990160"/>
            <a:chOff x="304920" y="1905120"/>
            <a:chExt cx="8458200" cy="2990160"/>
          </a:xfrm>
        </p:grpSpPr>
        <p:sp>
          <p:nvSpPr>
            <p:cNvPr id="349" name="Text Box 5"/>
            <p:cNvSpPr/>
            <p:nvPr/>
          </p:nvSpPr>
          <p:spPr>
            <a:xfrm>
              <a:off x="304920" y="1905120"/>
              <a:ext cx="4114800" cy="29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Asset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Cash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$  1,39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/R – N. Chang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  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/R – P. O</a:t>
              </a:r>
              <a:r>
                <a:rPr b="0" lang="ja-JP" sz="2400" spc="-1" strike="noStrike">
                  <a:solidFill>
                    <a:srgbClr val="ffffcc"/>
                  </a:solidFill>
                  <a:latin typeface="Arial"/>
                </a:rPr>
                <a:t>’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Neil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  527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Equipment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8,31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Delivery Truck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19,75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Land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40,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Building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80,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6"/>
            <p:cNvSpPr/>
            <p:nvPr/>
          </p:nvSpPr>
          <p:spPr>
            <a:xfrm>
              <a:off x="4648320" y="1905120"/>
              <a:ext cx="4114800" cy="16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Liabiliti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Bank Loan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$  1,39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Mortgage Payable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52,7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0FE-1697-4681-B735-A242FF1E58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6320" y="9144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pare an equation analysis sheet, using a spreadsheet program, and record the above items.  Do not forget to calculate and include the capital figu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alyze the transactions of October 21, listed below, and record the necessary changes on the equation analysis sheet.  After each transaction, ensure that the equation is still in bal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fter completing transaction 5, prepare a balance she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(continued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3962520"/>
            <a:ext cx="9296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October 21</a:t>
            </a:r>
            <a:r>
              <a:rPr b="0" lang="en-US" sz="2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Transaction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owner, in need of money for his personal use, draws $500 cash out of the busines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. O</a:t>
            </a:r>
            <a:r>
              <a:rPr b="0" lang="ja-JP" sz="2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eil pays her debt of $527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repair service is performed for a customer.  The customer pays the full amount of the bill, $90,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electrical tester is purchased for $410 and paid for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regular monthly mortgage payment of $900 in cash is mad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7B5-A383-409E-8B28-38CEC296B3B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view Exerci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1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(pg. 7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2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(pg. 7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380880" y="2666880"/>
            <a:ext cx="8458200" cy="1905120"/>
            <a:chOff x="380880" y="2666880"/>
            <a:chExt cx="8458200" cy="1905120"/>
          </a:xfrm>
        </p:grpSpPr>
        <p:sp>
          <p:nvSpPr>
            <p:cNvPr id="359" name="Rectangle 5"/>
            <p:cNvSpPr/>
            <p:nvPr/>
          </p:nvSpPr>
          <p:spPr>
            <a:xfrm>
              <a:off x="380880" y="2666880"/>
              <a:ext cx="8458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00"/>
                  </a:solidFill>
                  <a:latin typeface="Arial"/>
                </a:rPr>
                <a:t>Class Work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43000" y="3276720"/>
              <a:ext cx="49528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</a:rPr>
                <a:t>Review Exercise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Exercise 3 – 6 </a:t>
              </a:r>
              <a:r>
                <a:rPr b="0" i="1" lang="en-US" sz="3200" spc="-1" strike="noStrike">
                  <a:solidFill>
                    <a:srgbClr val="ffffcc"/>
                  </a:solidFill>
                  <a:latin typeface="Arial"/>
                </a:rPr>
                <a:t>(pg. 7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380880" y="4572000"/>
            <a:ext cx="8458200" cy="1981080"/>
            <a:chOff x="380880" y="4572000"/>
            <a:chExt cx="8458200" cy="1981080"/>
          </a:xfrm>
        </p:grpSpPr>
        <p:sp>
          <p:nvSpPr>
            <p:cNvPr id="362" name="Rectangle 4"/>
            <p:cNvSpPr/>
            <p:nvPr/>
          </p:nvSpPr>
          <p:spPr>
            <a:xfrm>
              <a:off x="1143000" y="5257800"/>
              <a:ext cx="4648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hallenge Exercis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Exercise 7 </a:t>
              </a:r>
              <a:r>
                <a:rPr b="0" i="1" lang="en-US" sz="3200" spc="-1" strike="noStrike">
                  <a:solidFill>
                    <a:srgbClr val="ffffcc"/>
                  </a:solidFill>
                  <a:latin typeface="Arial"/>
                </a:rPr>
                <a:t>(pg. 72)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380880" y="4572000"/>
              <a:ext cx="8458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00"/>
                  </a:solidFill>
                  <a:latin typeface="Arial"/>
                </a:rPr>
                <a:t>Assignment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6CD-7E61-4CA0-B766-9678B19716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73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Example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– Opening 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304920" y="1447920"/>
          <a:ext cx="8534160" cy="37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53416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8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D29D-9649-4275-AA8E-3405601C702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8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1.  Set up sheet with Beginning Balances as per B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" name="Group 19"/>
          <p:cNvGrpSpPr/>
          <p:nvPr/>
        </p:nvGrpSpPr>
        <p:grpSpPr>
          <a:xfrm>
            <a:off x="0" y="3124080"/>
            <a:ext cx="9144000" cy="1237320"/>
            <a:chOff x="0" y="3124080"/>
            <a:chExt cx="9144000" cy="1237320"/>
          </a:xfrm>
        </p:grpSpPr>
        <p:sp>
          <p:nvSpPr>
            <p:cNvPr id="118" name="AutoShape 9"/>
            <p:cNvSpPr/>
            <p:nvPr/>
          </p:nvSpPr>
          <p:spPr>
            <a:xfrm rot="5400000">
              <a:off x="3771360" y="13330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 rot="5400000">
              <a:off x="6806880" y="2361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AutoShape 11"/>
            <p:cNvSpPr/>
            <p:nvPr/>
          </p:nvSpPr>
          <p:spPr>
            <a:xfrm rot="5400000">
              <a:off x="8343720" y="2819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0" y="3657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3,300            =                $20,1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0" y="2895480"/>
            <a:ext cx="9144000" cy="4127400"/>
            <a:chOff x="0" y="2895480"/>
            <a:chExt cx="9144000" cy="4127400"/>
          </a:xfrm>
        </p:grpSpPr>
        <p:graphicFrame>
          <p:nvGraphicFramePr>
            <p:cNvPr id="123" name="Object 20"/>
            <p:cNvGraphicFramePr/>
            <p:nvPr/>
          </p:nvGraphicFramePr>
          <p:xfrm>
            <a:off x="0" y="2984400"/>
            <a:ext cx="914400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984400"/>
                      <a:ext cx="914400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Freeform 42"/>
            <p:cNvSpPr/>
            <p:nvPr/>
          </p:nvSpPr>
          <p:spPr>
            <a:xfrm>
              <a:off x="0" y="2895480"/>
              <a:ext cx="9144000" cy="1778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760" h="112">
                  <a:moveTo>
                    <a:pt x="0" y="56"/>
                  </a:moveTo>
                  <a:cubicBezTo>
                    <a:pt x="48" y="80"/>
                    <a:pt x="96" y="104"/>
                    <a:pt x="144" y="104"/>
                  </a:cubicBezTo>
                  <a:cubicBezTo>
                    <a:pt x="192" y="104"/>
                    <a:pt x="216" y="56"/>
                    <a:pt x="288" y="56"/>
                  </a:cubicBezTo>
                  <a:cubicBezTo>
                    <a:pt x="360" y="56"/>
                    <a:pt x="520" y="104"/>
                    <a:pt x="576" y="104"/>
                  </a:cubicBezTo>
                  <a:cubicBezTo>
                    <a:pt x="632" y="104"/>
                    <a:pt x="568" y="56"/>
                    <a:pt x="624" y="56"/>
                  </a:cubicBezTo>
                  <a:cubicBezTo>
                    <a:pt x="680" y="56"/>
                    <a:pt x="824" y="104"/>
                    <a:pt x="912" y="104"/>
                  </a:cubicBezTo>
                  <a:cubicBezTo>
                    <a:pt x="1000" y="104"/>
                    <a:pt x="1080" y="56"/>
                    <a:pt x="1152" y="56"/>
                  </a:cubicBezTo>
                  <a:cubicBezTo>
                    <a:pt x="1224" y="56"/>
                    <a:pt x="1288" y="104"/>
                    <a:pt x="1344" y="104"/>
                  </a:cubicBezTo>
                  <a:cubicBezTo>
                    <a:pt x="1400" y="104"/>
                    <a:pt x="1424" y="56"/>
                    <a:pt x="1488" y="56"/>
                  </a:cubicBezTo>
                  <a:cubicBezTo>
                    <a:pt x="1552" y="56"/>
                    <a:pt x="1664" y="104"/>
                    <a:pt x="1728" y="104"/>
                  </a:cubicBezTo>
                  <a:cubicBezTo>
                    <a:pt x="1792" y="104"/>
                    <a:pt x="1800" y="64"/>
                    <a:pt x="1872" y="56"/>
                  </a:cubicBezTo>
                  <a:cubicBezTo>
                    <a:pt x="1944" y="48"/>
                    <a:pt x="2096" y="64"/>
                    <a:pt x="2160" y="56"/>
                  </a:cubicBezTo>
                  <a:cubicBezTo>
                    <a:pt x="2224" y="48"/>
                    <a:pt x="2184" y="0"/>
                    <a:pt x="2256" y="8"/>
                  </a:cubicBezTo>
                  <a:cubicBezTo>
                    <a:pt x="2328" y="16"/>
                    <a:pt x="2512" y="104"/>
                    <a:pt x="2592" y="104"/>
                  </a:cubicBezTo>
                  <a:cubicBezTo>
                    <a:pt x="2672" y="104"/>
                    <a:pt x="2640" y="8"/>
                    <a:pt x="2736" y="8"/>
                  </a:cubicBezTo>
                  <a:cubicBezTo>
                    <a:pt x="2832" y="8"/>
                    <a:pt x="3080" y="96"/>
                    <a:pt x="3168" y="104"/>
                  </a:cubicBezTo>
                  <a:cubicBezTo>
                    <a:pt x="3256" y="112"/>
                    <a:pt x="3192" y="56"/>
                    <a:pt x="3264" y="56"/>
                  </a:cubicBezTo>
                  <a:cubicBezTo>
                    <a:pt x="3336" y="56"/>
                    <a:pt x="3536" y="104"/>
                    <a:pt x="3600" y="104"/>
                  </a:cubicBezTo>
                  <a:cubicBezTo>
                    <a:pt x="3664" y="104"/>
                    <a:pt x="3584" y="56"/>
                    <a:pt x="3648" y="56"/>
                  </a:cubicBezTo>
                  <a:cubicBezTo>
                    <a:pt x="3712" y="56"/>
                    <a:pt x="3896" y="104"/>
                    <a:pt x="3984" y="104"/>
                  </a:cubicBezTo>
                  <a:cubicBezTo>
                    <a:pt x="4072" y="104"/>
                    <a:pt x="4104" y="64"/>
                    <a:pt x="4176" y="56"/>
                  </a:cubicBezTo>
                  <a:cubicBezTo>
                    <a:pt x="4248" y="48"/>
                    <a:pt x="4352" y="56"/>
                    <a:pt x="4416" y="56"/>
                  </a:cubicBezTo>
                  <a:cubicBezTo>
                    <a:pt x="4480" y="56"/>
                    <a:pt x="4512" y="48"/>
                    <a:pt x="4560" y="56"/>
                  </a:cubicBezTo>
                  <a:cubicBezTo>
                    <a:pt x="4608" y="64"/>
                    <a:pt x="4648" y="104"/>
                    <a:pt x="4704" y="104"/>
                  </a:cubicBezTo>
                  <a:cubicBezTo>
                    <a:pt x="4760" y="104"/>
                    <a:pt x="4824" y="56"/>
                    <a:pt x="4896" y="56"/>
                  </a:cubicBezTo>
                  <a:cubicBezTo>
                    <a:pt x="4968" y="56"/>
                    <a:pt x="5080" y="104"/>
                    <a:pt x="5136" y="104"/>
                  </a:cubicBezTo>
                  <a:cubicBezTo>
                    <a:pt x="5192" y="104"/>
                    <a:pt x="5184" y="64"/>
                    <a:pt x="5232" y="56"/>
                  </a:cubicBezTo>
                  <a:cubicBezTo>
                    <a:pt x="5280" y="48"/>
                    <a:pt x="5368" y="48"/>
                    <a:pt x="5424" y="56"/>
                  </a:cubicBezTo>
                  <a:cubicBezTo>
                    <a:pt x="5480" y="64"/>
                    <a:pt x="5536" y="104"/>
                    <a:pt x="5568" y="104"/>
                  </a:cubicBezTo>
                  <a:cubicBezTo>
                    <a:pt x="5600" y="104"/>
                    <a:pt x="5584" y="64"/>
                    <a:pt x="5616" y="56"/>
                  </a:cubicBezTo>
                  <a:cubicBezTo>
                    <a:pt x="5648" y="48"/>
                    <a:pt x="5736" y="56"/>
                    <a:pt x="5760" y="56"/>
                  </a:cubicBezTo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" name="Line 21"/>
          <p:cNvSpPr/>
          <p:nvPr/>
        </p:nvSpPr>
        <p:spPr>
          <a:xfrm flipH="1" flipV="1">
            <a:off x="2437920" y="2971440"/>
            <a:ext cx="11430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4238640" y="2971800"/>
            <a:ext cx="504720" cy="2819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267080" y="2971800"/>
            <a:ext cx="11430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 flipH="1" flipV="1">
            <a:off x="7543440" y="2971800"/>
            <a:ext cx="685800" cy="2362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7"/>
          <p:cNvSpPr/>
          <p:nvPr/>
        </p:nvSpPr>
        <p:spPr>
          <a:xfrm flipH="1" flipV="1">
            <a:off x="6857640" y="2971800"/>
            <a:ext cx="167652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Group 29"/>
          <p:cNvGrpSpPr/>
          <p:nvPr/>
        </p:nvGrpSpPr>
        <p:grpSpPr>
          <a:xfrm>
            <a:off x="8839080" y="2971440"/>
            <a:ext cx="152640" cy="3367440"/>
            <a:chOff x="8839080" y="2971440"/>
            <a:chExt cx="152640" cy="3367440"/>
          </a:xfrm>
        </p:grpSpPr>
        <p:sp>
          <p:nvSpPr>
            <p:cNvPr id="132" name="Line 25"/>
            <p:cNvSpPr/>
            <p:nvPr/>
          </p:nvSpPr>
          <p:spPr>
            <a:xfrm flipV="1">
              <a:off x="8991720" y="2971440"/>
              <a:ext cx="0" cy="3048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28"/>
            <p:cNvSpPr/>
            <p:nvPr/>
          </p:nvSpPr>
          <p:spPr>
            <a:xfrm flipH="1">
              <a:off x="8839080" y="5958000"/>
              <a:ext cx="152640" cy="380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4" name="Group 32"/>
          <p:cNvGrpSpPr/>
          <p:nvPr/>
        </p:nvGrpSpPr>
        <p:grpSpPr>
          <a:xfrm>
            <a:off x="3276360" y="2971800"/>
            <a:ext cx="381240" cy="2362320"/>
            <a:chOff x="3276360" y="2971800"/>
            <a:chExt cx="381240" cy="2362320"/>
          </a:xfrm>
        </p:grpSpPr>
        <p:sp>
          <p:nvSpPr>
            <p:cNvPr id="135" name="Line 22"/>
            <p:cNvSpPr/>
            <p:nvPr/>
          </p:nvSpPr>
          <p:spPr>
            <a:xfrm flipH="1" flipV="1">
              <a:off x="3276360" y="2971800"/>
              <a:ext cx="152280" cy="2362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3429000" y="5334120"/>
              <a:ext cx="228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Group 41"/>
          <p:cNvGrpSpPr/>
          <p:nvPr/>
        </p:nvGrpSpPr>
        <p:grpSpPr>
          <a:xfrm>
            <a:off x="0" y="1752480"/>
            <a:ext cx="9144000" cy="4876920"/>
            <a:chOff x="0" y="1752480"/>
            <a:chExt cx="9144000" cy="4876920"/>
          </a:xfrm>
        </p:grpSpPr>
        <p:sp>
          <p:nvSpPr>
            <p:cNvPr id="138" name="AutoShape 33"/>
            <p:cNvSpPr/>
            <p:nvPr/>
          </p:nvSpPr>
          <p:spPr>
            <a:xfrm>
              <a:off x="1752480" y="1752480"/>
              <a:ext cx="7391520" cy="1067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AutoShape 34"/>
            <p:cNvSpPr/>
            <p:nvPr/>
          </p:nvSpPr>
          <p:spPr>
            <a:xfrm>
              <a:off x="0" y="4267080"/>
              <a:ext cx="2362320" cy="20574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AutoShape 35"/>
            <p:cNvSpPr/>
            <p:nvPr/>
          </p:nvSpPr>
          <p:spPr>
            <a:xfrm>
              <a:off x="4724280" y="4267080"/>
              <a:ext cx="2362320" cy="23623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Line 36"/>
            <p:cNvSpPr/>
            <p:nvPr/>
          </p:nvSpPr>
          <p:spPr>
            <a:xfrm flipV="1">
              <a:off x="1066680" y="2819160"/>
              <a:ext cx="2438640" cy="1447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Line 37"/>
            <p:cNvSpPr/>
            <p:nvPr/>
          </p:nvSpPr>
          <p:spPr>
            <a:xfrm flipV="1">
              <a:off x="6095880" y="2819160"/>
              <a:ext cx="762120" cy="1447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AutoShape 40"/>
            <p:cNvSpPr/>
            <p:nvPr/>
          </p:nvSpPr>
          <p:spPr>
            <a:xfrm>
              <a:off x="1371600" y="3581280"/>
              <a:ext cx="4343400" cy="23623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 up column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adings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per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count nam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" name="Line 31"/>
          <p:cNvSpPr/>
          <p:nvPr/>
        </p:nvSpPr>
        <p:spPr>
          <a:xfrm flipV="1">
            <a:off x="3962520" y="2971440"/>
            <a:ext cx="0" cy="2438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44"/>
          <p:cNvSpPr/>
          <p:nvPr/>
        </p:nvSpPr>
        <p:spPr>
          <a:xfrm>
            <a:off x="0" y="3062160"/>
            <a:ext cx="2514600" cy="1600200"/>
          </a:xfrm>
          <a:prstGeom prst="cloudCallout">
            <a:avLst>
              <a:gd name="adj1" fmla="val -109027"/>
              <a:gd name="adj2" fmla="val 4564"/>
            </a:avLst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balances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C4D-317E-4CD0-9A12-D4E7FB3E78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24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1.  Set up sheet with Beginning Balances as per B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0" y="3124080"/>
            <a:ext cx="9144000" cy="1237320"/>
            <a:chOff x="0" y="3124080"/>
            <a:chExt cx="9144000" cy="1237320"/>
          </a:xfrm>
        </p:grpSpPr>
        <p:sp>
          <p:nvSpPr>
            <p:cNvPr id="154" name="AutoShape 7"/>
            <p:cNvSpPr/>
            <p:nvPr/>
          </p:nvSpPr>
          <p:spPr>
            <a:xfrm rot="5400000">
              <a:off x="3771360" y="13330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rot="5400000">
              <a:off x="6806880" y="2361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 rot="5400000">
              <a:off x="8343720" y="2819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0" y="3657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3,300            =                $20,1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Text Box 27"/>
          <p:cNvSpPr/>
          <p:nvPr/>
        </p:nvSpPr>
        <p:spPr>
          <a:xfrm>
            <a:off x="3733920" y="41148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Arial"/>
              </a:rPr>
              <a:t>A   =   L + OE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B13-552D-4364-961B-56B2E71540D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2.  Metropolitan Movers pays $1,200 cash to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ED2-9D77-4D1D-BC86-048795241C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Line 11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2.  Metropolitan Movers pays $1,200 cash to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4290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0" y="3505320"/>
            <a:ext cx="9144000" cy="1237320"/>
            <a:chOff x="0" y="3505320"/>
            <a:chExt cx="9144000" cy="1237320"/>
          </a:xfrm>
        </p:grpSpPr>
        <p:sp>
          <p:nvSpPr>
            <p:cNvPr id="174" name="AutoShape 7"/>
            <p:cNvSpPr/>
            <p:nvPr/>
          </p:nvSpPr>
          <p:spPr>
            <a:xfrm rot="5400000">
              <a:off x="3771360" y="171432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 rot="5400000">
              <a:off x="6806880" y="274320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 rot="5400000">
              <a:off x="8343720" y="320040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0" y="403884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43F-0DDA-4929-BBC4-85597C6EB06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3.  K. Lincoln, who owes Metropolitan Movers $2,500, pays $1,100 in partial payment of deb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4290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EA3-743F-4FD9-80A7-1F48EB5FEF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Line 13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886200"/>
            <a:ext cx="9144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0" y="3962520"/>
            <a:ext cx="9144000" cy="1237320"/>
            <a:chOff x="0" y="3962520"/>
            <a:chExt cx="9144000" cy="1237320"/>
          </a:xfrm>
        </p:grpSpPr>
        <p:sp>
          <p:nvSpPr>
            <p:cNvPr id="192" name="AutoShape 7"/>
            <p:cNvSpPr/>
            <p:nvPr/>
          </p:nvSpPr>
          <p:spPr>
            <a:xfrm rot="5400000">
              <a:off x="3771360" y="217152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 rot="5400000">
              <a:off x="6806880" y="320040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rot="5400000">
              <a:off x="8343720" y="365760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0" y="449604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3.  K. Lincoln, who owes Metropolitan Movers $2,500, pays $1,100 in partial payment of deb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0:38:02Z</dcterms:created>
  <dc:creator>Gilroy</dc:creator>
  <dc:description/>
  <dc:language>en-US</dc:language>
  <cp:lastModifiedBy>Cameron Stott</cp:lastModifiedBy>
  <dcterms:modified xsi:type="dcterms:W3CDTF">2016-02-09T19:09:23Z</dcterms:modified>
  <cp:revision>18</cp:revision>
  <dc:subject/>
  <dc:title>Analyzing Changes in Financial Position</dc:title>
</cp:coreProperties>
</file>